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D4F8-7067-47BD-8B1D-8B42E05B6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3D50-AF30-4880-A59B-29D0E393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F65B-8973-486E-B4E6-7BBBC1208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2973-0CFD-4B64-B3DC-B33E7D1C9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837A-2054-4B0D-ABCA-00500BEA0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D615-41FB-4C32-BC94-7991002B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9F90-A98A-4901-9993-2C443707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7D877-F275-4F79-83B6-83FA9047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E3C4-C697-4554-BB87-800A43FD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942D-6087-4662-8036-40EFEE85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9D79-3465-4120-93C0-EAD1487A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9A84-59F7-4376-82C4-A8677E44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1D7E2-B1A8-4883-93D8-02A6C25A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52AE7-06F4-4DC0-B3DD-7C5C958E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C8E4-9071-40E0-9B6F-78E21F7C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5653-93C8-4557-9BD2-3B5D02E6D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AA32-4EC8-41AF-BE94-37A2B99B5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6FD8-5184-45CE-B86C-71114992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FA43-04F7-4769-BA89-83438B1C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3A54-BED6-4F13-945D-9DDB2D1D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3FDA-42BD-42A7-80C9-232AE98C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EDF0-DA99-43FF-B239-AD9E8CC7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9693-4CAC-4802-AFCA-A82BF4F6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8058-6B28-4B8B-8C18-40622A7F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C22DC-E12A-493D-9833-46F025967E9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B8EF9-614C-449C-B07D-1A55D605FCA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Subjects and Verbs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Overview of Basic Sentence Struc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ID Complete Subjects and Complete Verbs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hatma Gandhi gave his life for India and for pe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 a practice of nonviolent resistance, he led his people to freedom from the Britis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was only good in his behavior and his accomplishment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s fasts, writings, and speeches inspired the people of Ind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andhi urged the tolerance of all relig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bd71"/>
                </a:solidFill>
                <a:latin typeface="Arial"/>
              </a:rPr>
              <a:t>ID Complete Subjects and Complete Verbs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ally, the British granted freedom to Ind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leaders in India and a few foreign agitators had questioned the freedom of relig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andhi, the Indian prince of peace, was killed by an intolerant religious lea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-591120">
              <a:spcBef>
                <a:spcPts val="799"/>
              </a:spcBef>
              <a:buClr>
                <a:srgbClr val="ffcc66"/>
              </a:buClr>
              <a:buSzPct val="65000"/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 of the world remember and celebrate the life of this heroic lead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hoose the Correct Verb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driver that cut me off on the streets ( is  are) dangerou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time we spent in the mountains ( was   were ) relax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eople in line at the DMV ( seems  seem ) angr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t’s ironic that so many people who ( claims  claim ) to be religious ( treats  treat ) others terribl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riving on the LA freeways ( makes  make) me a nervous wrec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3360" indent="-60336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 most animals, an under the skin chip ( is   are ) the best safeguard against a lost pe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hoose the Correct Verb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ither my parents nor yours ( has   have) enough money to pay for our wedd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ach of these essays ( deserves  deserve ) a passing scor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of your friends ( calls  call) the house too la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of the gas ( has  have ) been stolen out of my car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re ( is   are ) a lot of money in the account: ten thousand dollar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ffcc66"/>
              </a:buClr>
              <a:buSzPct val="65000"/>
              <a:buFont typeface="Tahoma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wo officers in the Royal Air Force ( is   are ) receiving medals for outstanding servic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escribe this picture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other played with the bo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oy is excit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have a pink toy box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other and the boy are communicat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966960" y="1600200"/>
            <a:ext cx="301752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ubject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All sentences must have a </a:t>
            </a:r>
            <a:r>
              <a:rPr b="0" lang="en-US" sz="2800" spc="-1" strike="noStrike">
                <a:solidFill>
                  <a:srgbClr val="0000cc"/>
                </a:solidFill>
                <a:latin typeface="Baskerville Old Face"/>
              </a:rPr>
              <a:t>subject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The subject is who or what causes the action or expresses a state of be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The moth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layed with the bo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The bo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is excit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The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have a pink toy box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The mother and the bo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re communicat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400800" y="457200"/>
            <a:ext cx="907920" cy="11415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3124080" y="5410080"/>
            <a:ext cx="1170000" cy="10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ore on Subject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200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mple Subj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plete Subj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pound Subj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mplied Subject: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428640" y="15998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judge’s 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reputat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order in the courtroom is well know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All of my closest friend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hrew me a surprise birthday par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Susan and Georg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ot married last ye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 the door, please.  (</a:t>
            </a: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yo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9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9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9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ubject Danger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590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epositional Phras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ere and There: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428640" y="15998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daughter of my parents’ friends lives in New Yor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daughter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of my parents’ frie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lives in New York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disappearance of those three girls in Florida is all over the new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 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disappearanc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of those three girls in Florid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s all over the new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re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 your new cell phon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ere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 your new 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cell phone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 are three girls in my fami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 are three </a:t>
            </a:r>
            <a:r>
              <a:rPr b="0" lang="en-US" sz="2000" spc="-1" strike="noStrike">
                <a:solidFill>
                  <a:srgbClr val="0000cc"/>
                </a:solidFill>
                <a:latin typeface="Tahoma"/>
              </a:rPr>
              <a:t>girl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n my famil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9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9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9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9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9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trange Subjec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ome subjects are always singula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ith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Either of thos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in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either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Neither of them eve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al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On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One of your teacher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iv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n our stree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on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– None of these book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seem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terest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ac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– Each of your friend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nice c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llective nouns are singula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 – The team of executive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lying out to a convention this afterno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rniture – This furniture (the couch, tables, and chairs)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loo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good in this roo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Fussy Subject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quantity words are always used with a plural verb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n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Many peopl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underemploy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 few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A few of the stor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sta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pen until midnigh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quantity words can be either singular or plu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o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of the appl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rip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st of the chees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post office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hav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remained op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milk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ha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een contaminat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ll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of the dogs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ark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of the ric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brow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Verb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All sentences must have a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Baskerville Old Face"/>
              </a:rPr>
              <a:t>verb</a:t>
            </a: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askerville Old Face"/>
              </a:rPr>
              <a:t>The verb indicates what the subject is doing or be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othe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laye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with the bo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bo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i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excit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hav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 pink toy box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mother and the boy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re communicat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705720" y="380880"/>
            <a:ext cx="847440" cy="8938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609480" y="152280"/>
            <a:ext cx="2214720" cy="1476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2540160" y="4419720"/>
            <a:ext cx="1473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9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4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" dur="2000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ore on Verbs: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3200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mple Subj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plete Subj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pound Subj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428640" y="159984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childre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av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 do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have been study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for three hours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t weekend I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leane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y house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w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the mov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9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9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23:43:16Z</dcterms:created>
  <dc:creator>SCE ESL PROGRAM</dc:creator>
  <dc:description/>
  <dc:language>en-US</dc:language>
  <cp:lastModifiedBy>SCE ESL PROGRAM</cp:lastModifiedBy>
  <dcterms:modified xsi:type="dcterms:W3CDTF">2012-05-10T00:27:05Z</dcterms:modified>
  <cp:revision>6</cp:revision>
  <dc:subject/>
  <dc:title>Subjects and Verbs</dc:title>
</cp:coreProperties>
</file>